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ct" ContentType="image/x-pict"/>
  <Override PartName="/ppt/media/image14.png" ContentType="image/png"/>
  <Override PartName="/ppt/media/image6.pct" ContentType="image/x-pict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BC0-B566-4947-9803-7CA8B9FD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35B-A50D-4453-B5AE-016DE897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443-711A-43ED-973D-C5EDBB26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56D-76A4-4AB2-8701-9FF1273E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739-1B9F-4D6A-A320-4C683A3C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EAE-2EB5-4FAC-BBFD-C4BB715F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5F3-5579-475F-AA50-35490023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961-53A8-4CDA-94C0-7BA8849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A05-DDFB-4A0C-AA85-093DBACD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FC-9CD5-4700-A91D-0FE316B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6C7-16DF-4465-938A-2CD7B20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615-F74F-45FF-A8BA-D38E5FE2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4533-5862-49F7-8586-D65AA696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2286000"/>
            <a:ext cx="6400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Comic Sans MS"/>
              </a:rPr>
              <a:t>NZ Curricu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Comic Sans MS"/>
              </a:rPr>
              <a:t>Key Competen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Comic Sans MS"/>
              </a:rPr>
              <a:t>Where do we star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164304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5410080"/>
            <a:ext cx="3940200" cy="112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2052360" cy="153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4272120" cy="130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3019320"/>
            <a:ext cx="19861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380880"/>
            <a:ext cx="7772400" cy="6248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457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914400"/>
            <a:ext cx="7238880" cy="571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990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676520"/>
            <a:ext cx="441972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209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ng &amp; Contrib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352680"/>
            <a:ext cx="39625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2578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Language, symbols and 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743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ng to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133720"/>
            <a:ext cx="39625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8686800" cy="1572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an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00200" y="762120"/>
            <a:ext cx="4027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Weber Sch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96" name="Macintosh HD:Users:jill:Downloads:keycompetenciessmall.mov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506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0120" cy="470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914400" y="508968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Z Curriculum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http://nzcurriculum.tki.org.nz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mpetencie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http://keycompetencies.tki.org.nz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0" r="0" b="5971"/>
          <a:stretch/>
        </p:blipFill>
        <p:spPr>
          <a:xfrm>
            <a:off x="1066680" y="228600"/>
            <a:ext cx="7620120" cy="472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1066680"/>
            <a:ext cx="5398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Current Understandin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90920" y="2743200"/>
            <a:ext cx="35812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5 Ws and an 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962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, when, where, why, who,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09680" y="685800"/>
            <a:ext cx="469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ry Chamberl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51" name="Macintosh HD:Users:jill:Downloads:Mary Chamberlain1.mp4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52" name="Macintosh HD:Users:jill:Downloads:Mary Chamberlain2.mp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438280" y="56386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Key Messa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353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256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2286000"/>
            <a:ext cx="469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naging Sel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397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11480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involve?  Jot down your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heck the NZ Curriculum document - what other aspects had you left out? P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18352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2438280"/>
            <a:ext cx="469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naging Sel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204040" cy="1254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Managing Self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09680" y="762120"/>
            <a:ext cx="469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naging Sel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71600" y="3200400"/>
            <a:ext cx="4191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rt Cos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abits of Mi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7972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7400" y="2438280"/>
            <a:ext cx="4699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Participat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an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Contribu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31604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66880" y="2743200"/>
            <a:ext cx="393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Thin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646280" cy="1106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72" name=""/>
          <p:cNvSpPr txBox="1"/>
          <p:nvPr/>
        </p:nvSpPr>
        <p:spPr>
          <a:xfrm>
            <a:off x="6477120" y="4952880"/>
            <a:ext cx="2361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yan's Thinkers Key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124000" cy="147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8125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2082960" cy="110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28600" y="3429000"/>
            <a:ext cx="2362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erle's Thinking Map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6019920"/>
            <a:ext cx="2362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 Bono Thinking Ha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81280" y="5943600"/>
            <a:ext cx="2362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ic organise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29400" y="2514600"/>
            <a:ext cx="1828800" cy="825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819520"/>
            <a:ext cx="2133720" cy="6426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4876920"/>
            <a:ext cx="1828800" cy="825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ng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572000"/>
            <a:ext cx="2362320" cy="1191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ng and Contrib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609480"/>
            <a:ext cx="1828800" cy="15570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Language, symbols and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7:34:41Z</dcterms:created>
  <dc:creator>Jill  Hammonds</dc:creator>
  <dc:description/>
  <dc:language>en-US</dc:language>
  <cp:lastModifiedBy>Jill  Hammonds</cp:lastModifiedBy>
  <dcterms:modified xsi:type="dcterms:W3CDTF">2010-05-09T19:07:39Z</dcterms:modified>
  <cp:revision>12</cp:revision>
  <dc:subject/>
  <dc:title>PowerPoint Presentation</dc:title>
</cp:coreProperties>
</file>